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90F-8472-4344-AAD3-639A060C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F9F-70F5-4F11-AA10-66C21836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A0E-6994-412F-A31F-6D4BDF99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0A2-4DCE-4A72-A2D4-3D20F7E0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FB17-CE0C-4793-951F-80EAD1F0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C9C8-8A48-4049-9122-649BD345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B66C-A7AF-4173-B0ED-40415923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A05C-2FA0-4491-921C-1F4E7BEA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48A6-1E38-44D7-A714-6B1A73C0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5E8D-7163-4D52-907E-8FB4961A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8792-230B-4272-9498-3363E90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667-2AF0-4893-81FB-B6E0E8C5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02D9-63D0-4E52-82B7-C1863E7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27D8-6588-4DAF-A8F4-8B428DA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C3C8-DBB8-414E-A61E-A332EB74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979B-1812-45A3-A8EB-EA4ECC72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9285-7D3C-454F-BA97-3C378C67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2D0-D989-424B-AFEA-5EE0147B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CF1-061A-4AA0-82E3-4F5A964E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1BE-A70A-4288-BE4F-802997E5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273-3083-413B-81B7-CAA24C9D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80C-A567-485A-9647-4A0E1EC8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E81-0666-4CE2-87E6-1374957A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E96-FAC6-41BF-8426-6D01EEDE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Alex\Desktop\Send Back to FTP\LO banner art\BIO10NAE_18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C920-F785-4B8F-AAF3-465955AA9E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289C-5947-4D65-89C7-8FD0AD2EA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rn Evolutionary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Users\Alex\Desktop\Send Back to FTP\LO banner art\BIO10NAE_18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rn Evolutionary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02A3-86D5-421F-BBAB-D400AEA98C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8D87-A3E0-4271-8421-94504FBDA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key difference between evolutionary classification and Linnaean classif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Users\Alex\Desktop\Batch 4\Art\Art 3_18_09+\BIO10NAE_05_18_03_LRIM_12.png"/>
          <p:cNvPicPr/>
          <p:nvPr/>
        </p:nvPicPr>
        <p:blipFill>
          <a:blip r:embed="rId1"/>
          <a:stretch/>
        </p:blipFill>
        <p:spPr>
          <a:xfrm>
            <a:off x="19080" y="3733920"/>
            <a:ext cx="9144000" cy="2828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63960" indent="-311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ositions of the derived characters on the cladogram reflect the order in which those characteristics arose in this line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960" indent="-311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rait of four limbs, for example, appeared before the trait of hair in the history of the ca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line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Alex\Desktop\Batch 4\Art\Art 3_18_09+\BIO10NAE_05_18_03_LRIM_13.png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2828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derived character defines a clade. Hair, for example, is a defining character for the clade Mammal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actable claws is a derived character shared only by members of the clade Felid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Users\Alex\Desktop\Batch 4\Art\Art 3_18_09+\BIO10NAE_05_18_03_LRIM_14.png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ed characters that appea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 the cladogram than the branch point for a clade are not derived for that particular cla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ir, for example, is not a derived character for the clade Carnivor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maller clades are nested within the larger cla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de Amniota is part of the larger clade Tetrapo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Alex\Desktop\Batch 4\Art\Art 3_18_09+\BIO10NAE_05_18_03_LRIM_12.pn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aily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534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 the importance of derived charac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cribe how to make and interpret a clad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erived Character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olutionary classification focuses on certain kinds of characters, called derived characters, when assigning organisms into clad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ed charac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trait that shows up in the most recent common ancestor of a particular lineage and gets passed along to all of its descend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Alex\Desktop\Batch 4\Art\Art 3_18_09+\BIO10NAE_05_18_03_LRIM_04.png"/>
          <p:cNvPicPr/>
          <p:nvPr/>
        </p:nvPicPr>
        <p:blipFill>
          <a:blip r:embed="rId1"/>
          <a:stretch/>
        </p:blipFill>
        <p:spPr>
          <a:xfrm>
            <a:off x="1143000" y="4724280"/>
            <a:ext cx="67816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erived Character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ther or not a character is derived depends on the level at which you’re grouping organis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limbs, for example, is a derived character for the clade tetrapo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ir is a derived character for the clade Mammalia, but four limb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ed for mammals. If it were, only mammals would have four limb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4343400" cy="1866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029200" y="4495680"/>
            <a:ext cx="37479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erived Character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zed shearing teeth is a derived character for the clade Carnivora—of which both the coyote and lion are memb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ither hair nor four limbs is a derived character for this cla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actable claws is a derived character for the clade Felidae (the cats). Notice that lions have this trait, but coyotes do n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Alex\Desktop\Batch 4\Art\Art 3_18_09+\BIO10NAE_05_18_03_LRIM_04.png"/>
          <p:cNvPicPr/>
          <p:nvPr/>
        </p:nvPicPr>
        <p:blipFill>
          <a:blip r:embed="rId1"/>
          <a:stretch/>
        </p:blipFill>
        <p:spPr>
          <a:xfrm>
            <a:off x="1219320" y="4800600"/>
            <a:ext cx="6705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Losing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sms can lose characteristics over time so systematists are cautious about using the absence of a trait as a derived charac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example, both whales and snakes have lost the tetrapod character of four limbs—but they are not very closely rela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akes are members of the clade Reptilia, while whales are members of the clade Mammal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cladogram shows a simplified phylogeny of the cat fami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Alex\Desktop\Batch 4\Art\Art 3_18_09+\BIO10NAE_05_18_03_LRIM_05.png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23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1828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owest node represents the last common ancestor of all four-limbed animals—members of the clade Tetrapo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Alex\Desktop\Batch 4\Art\Art 3_18_09+\BIO10NAE_05_18_03_005_LRIM_11.pn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828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1828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ading Cladogra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orks show the order in which various groups branched off over the course of ev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Alex\Desktop\Batch 4\Art\Art 3_18_09+\BIO10NAE_05_18_03_005_LRIM_13.png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0:20:54Z</dcterms:created>
  <dc:creator>Alex</dc:creator>
  <dc:description/>
  <dc:language>en-US</dc:language>
  <cp:lastModifiedBy>dzahm</cp:lastModifiedBy>
  <dcterms:modified xsi:type="dcterms:W3CDTF">2013-12-02T20:48:18Z</dcterms:modified>
  <cp:revision>289</cp:revision>
  <dc:subject/>
  <dc:title>Slide 1</dc:title>
</cp:coreProperties>
</file>